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9BBF-92EE-4997-BCD9-438EF86676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ajeev Alur, David L. Di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A46-995C-4292-87E0-05DD663A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D66-D8FF-4F95-A0BD-A4CBEE0D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FBE-0ADD-45C4-807E-6D5834B9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3FA-BB44-4995-92A1-CAF25D54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BEE0-C8F7-4D60-B81C-867F647B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FD96-7064-46FF-913B-68E0A0CD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EC56-07B3-4897-B8A2-50AE8E15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4EF3-5C69-40E8-8F06-577BA14D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D0FB-05D0-4C3E-8384-30391F12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6414-5294-4E4B-B582-5B45C89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6D3F-A4C2-4FF9-8A08-8B26849D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A71-00E3-48FB-84B9-0AAC8E7F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CA4D-26BA-4048-996C-B99A729E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9F1E-A84D-4753-92F3-01194746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387E-5E92-4053-B4B8-A9DDF079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6F20-E24A-43A1-91DA-8F52CAF0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1517-9C0C-4EBC-A778-6034C8BE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877-40AD-4EFA-9EE6-9A929A6B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1ED-D85B-4CFA-81F9-D4DA5919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670-67CA-400F-94F1-EFBAF972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54C-D4CA-4972-8FD7-7A9F19B5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332-6ED0-4B3A-B4CF-4FF10359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756-F55A-42D4-94B8-BEE4A23F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9A5-B371-4F3F-9C3D-8B4AA469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63E-BD02-4004-AA3F-9F3406618FBD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5547-026C-41BE-933F-925C699D16EE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18129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62920" y="1828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2920" y="2895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3204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2854080" y="5168520"/>
            <a:ext cx="42840" cy="2604960"/>
          </a:xfrm>
          <a:custGeom>
            <a:avLst/>
            <a:gdLst>
              <a:gd name="textAreaLeft" fmla="*/ 12600 w 42840"/>
              <a:gd name="textAreaRight" fmla="*/ 43200 w 42840"/>
              <a:gd name="textAreaTop" fmla="*/ 108360 h 2604960"/>
              <a:gd name="textAreaBottom" fmla="*/ 2496600 h 26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5600" y="6461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28880" y="5094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72080" y="2862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3490920" y="4587480"/>
            <a:ext cx="42840" cy="3767400"/>
          </a:xfrm>
          <a:custGeom>
            <a:avLst/>
            <a:gdLst>
              <a:gd name="textAreaLeft" fmla="*/ 12600 w 42840"/>
              <a:gd name="textAreaRight" fmla="*/ 43200 w 42840"/>
              <a:gd name="textAreaTop" fmla="*/ 156960 h 3767400"/>
              <a:gd name="textAreaBottom" fmla="*/ 3610440 h 376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04704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3240" y="1808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5773680" y="615420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364720" y="64213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1280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789240" y="5560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6629400" y="5994360"/>
            <a:ext cx="85680" cy="927360"/>
          </a:xfrm>
          <a:custGeom>
            <a:avLst/>
            <a:gdLst>
              <a:gd name="textAreaLeft" fmla="*/ 25200 w 85680"/>
              <a:gd name="textAreaRight" fmla="*/ 86040 w 85680"/>
              <a:gd name="textAreaTop" fmla="*/ 38520 h 927360"/>
              <a:gd name="textAreaBottom" fmla="*/ 888840 h 9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168960" y="640548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gt;= 1 &amp; y&lt;=2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7192800" y="6276600"/>
            <a:ext cx="898560" cy="3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Definition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2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 timed automata is a tuple &lt;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∑, S, S</a:t>
            </a:r>
            <a:r>
              <a:rPr b="0" lang="zh-CN" sz="24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, C, 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&gt;, whe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∑ 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is a finite set of alphabe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 is a finite set of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     S is the set of start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C is a finite set of clock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E                                    is a set of transitions. An edge &lt;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, s’, a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&gt; represents a transition from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to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’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on input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a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under the clock constraint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.  The clocks in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will be reset in the transitio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133720" y="42670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209680" y="35053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14600" y="4267080"/>
                <a:ext cx="2057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ing Properties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Empti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reachability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Decidable, P-Space comple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Universality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neg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Undecid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But 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deterministic TA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is 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closed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under all the boolean oper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Given a system as a collection of TA and a property as a deterministic TA, checking the system satisfies the specification can be done in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 P-Sp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the train-gate syst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whenever the train is inside the gate, the gate should be clo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051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781680" y="4876920"/>
            <a:ext cx="83844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4197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23880" y="5181480"/>
            <a:ext cx="3812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743200" y="472428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192"/>
                </a:moveTo>
                <a:cubicBezTo>
                  <a:pt x="176" y="96"/>
                  <a:pt x="352" y="0"/>
                  <a:pt x="528" y="0"/>
                </a:cubicBezTo>
                <a:cubicBezTo>
                  <a:pt x="704" y="0"/>
                  <a:pt x="1040" y="120"/>
                  <a:pt x="1056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523880" cy="3049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84" y="96"/>
                  <a:pt x="368" y="0"/>
                  <a:pt x="528" y="0"/>
                </a:cubicBezTo>
                <a:cubicBezTo>
                  <a:pt x="688" y="0"/>
                  <a:pt x="824" y="96"/>
                  <a:pt x="960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743200" y="525780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0"/>
                </a:moveTo>
                <a:cubicBezTo>
                  <a:pt x="176" y="96"/>
                  <a:pt x="352" y="192"/>
                  <a:pt x="528" y="192"/>
                </a:cubicBezTo>
                <a:cubicBezTo>
                  <a:pt x="704" y="192"/>
                  <a:pt x="880" y="96"/>
                  <a:pt x="1056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57800" y="5257800"/>
            <a:ext cx="152388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0"/>
                </a:moveTo>
                <a:cubicBezTo>
                  <a:pt x="212" y="72"/>
                  <a:pt x="424" y="144"/>
                  <a:pt x="576" y="144"/>
                </a:cubicBezTo>
                <a:cubicBezTo>
                  <a:pt x="728" y="144"/>
                  <a:pt x="820" y="72"/>
                  <a:pt x="912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28800" y="43434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240" y="336"/>
                </a:moveTo>
                <a:cubicBezTo>
                  <a:pt x="120" y="216"/>
                  <a:pt x="0" y="96"/>
                  <a:pt x="48" y="48"/>
                </a:cubicBezTo>
                <a:cubicBezTo>
                  <a:pt x="96" y="0"/>
                  <a:pt x="480" y="0"/>
                  <a:pt x="528" y="48"/>
                </a:cubicBezTo>
                <a:cubicBezTo>
                  <a:pt x="576" y="96"/>
                  <a:pt x="456" y="216"/>
                  <a:pt x="336" y="336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330800" y="4267080"/>
            <a:ext cx="888840" cy="609840"/>
          </a:xfrm>
          <a:custGeom>
            <a:avLst/>
            <a:gdLst/>
            <a:ahLst/>
            <a:rect l="l" t="t" r="r" b="b"/>
            <a:pathLst>
              <a:path w="560" h="384">
                <a:moveTo>
                  <a:pt x="200" y="384"/>
                </a:moveTo>
                <a:cubicBezTo>
                  <a:pt x="100" y="296"/>
                  <a:pt x="0" y="208"/>
                  <a:pt x="8" y="144"/>
                </a:cubicBezTo>
                <a:cubicBezTo>
                  <a:pt x="16" y="80"/>
                  <a:pt x="160" y="0"/>
                  <a:pt x="248" y="0"/>
                </a:cubicBezTo>
                <a:cubicBezTo>
                  <a:pt x="336" y="0"/>
                  <a:pt x="512" y="80"/>
                  <a:pt x="536" y="144"/>
                </a:cubicBezTo>
                <a:cubicBezTo>
                  <a:pt x="560" y="208"/>
                  <a:pt x="476" y="296"/>
                  <a:pt x="392" y="384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71840" y="3998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98000" y="437976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034080" y="54468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~en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25760" y="39225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624640" y="4379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691240" y="54244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timed system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a system whose correctness depends o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ming constraint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ormal analysi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cribe systems with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ecify properties about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conform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Realtime live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: the gate is never closed at a stretch for more than 10 minu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88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864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971800" y="4178160"/>
            <a:ext cx="2590920" cy="393840"/>
          </a:xfrm>
          <a:custGeom>
            <a:avLst/>
            <a:gdLst/>
            <a:ahLst/>
            <a:rect l="l" t="t" r="r" b="b"/>
            <a:pathLst>
              <a:path w="1632" h="248">
                <a:moveTo>
                  <a:pt x="0" y="200"/>
                </a:moveTo>
                <a:cubicBezTo>
                  <a:pt x="296" y="100"/>
                  <a:pt x="592" y="0"/>
                  <a:pt x="864" y="8"/>
                </a:cubicBezTo>
                <a:cubicBezTo>
                  <a:pt x="1136" y="16"/>
                  <a:pt x="1384" y="132"/>
                  <a:pt x="1632" y="248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95480" y="5029200"/>
            <a:ext cx="2667240" cy="393840"/>
          </a:xfrm>
          <a:custGeom>
            <a:avLst/>
            <a:gdLst/>
            <a:ahLst/>
            <a:rect l="l" t="t" r="r" b="b"/>
            <a:pathLst>
              <a:path w="1680" h="248">
                <a:moveTo>
                  <a:pt x="0" y="48"/>
                </a:moveTo>
                <a:cubicBezTo>
                  <a:pt x="316" y="148"/>
                  <a:pt x="632" y="248"/>
                  <a:pt x="912" y="240"/>
                </a:cubicBezTo>
                <a:cubicBezTo>
                  <a:pt x="1192" y="232"/>
                  <a:pt x="1436" y="116"/>
                  <a:pt x="1680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66960" y="3733920"/>
            <a:ext cx="1054080" cy="685800"/>
          </a:xfrm>
          <a:custGeom>
            <a:avLst/>
            <a:gdLst/>
            <a:ahLst/>
            <a:rect l="l" t="t" r="r" b="b"/>
            <a:pathLst>
              <a:path w="664" h="432">
                <a:moveTo>
                  <a:pt x="216" y="432"/>
                </a:moveTo>
                <a:cubicBezTo>
                  <a:pt x="108" y="324"/>
                  <a:pt x="0" y="216"/>
                  <a:pt x="24" y="144"/>
                </a:cubicBezTo>
                <a:cubicBezTo>
                  <a:pt x="48" y="72"/>
                  <a:pt x="256" y="0"/>
                  <a:pt x="360" y="0"/>
                </a:cubicBezTo>
                <a:cubicBezTo>
                  <a:pt x="464" y="0"/>
                  <a:pt x="632" y="72"/>
                  <a:pt x="648" y="144"/>
                </a:cubicBezTo>
                <a:cubicBezTo>
                  <a:pt x="664" y="216"/>
                  <a:pt x="560" y="324"/>
                  <a:pt x="456" y="43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3797280"/>
            <a:ext cx="876240" cy="622440"/>
          </a:xfrm>
          <a:custGeom>
            <a:avLst/>
            <a:gdLst/>
            <a:ahLst/>
            <a:rect l="l" t="t" r="r" b="b"/>
            <a:pathLst>
              <a:path w="552" h="392">
                <a:moveTo>
                  <a:pt x="240" y="392"/>
                </a:moveTo>
                <a:cubicBezTo>
                  <a:pt x="120" y="304"/>
                  <a:pt x="0" y="216"/>
                  <a:pt x="0" y="152"/>
                </a:cubicBezTo>
                <a:cubicBezTo>
                  <a:pt x="0" y="88"/>
                  <a:pt x="152" y="16"/>
                  <a:pt x="240" y="8"/>
                </a:cubicBezTo>
                <a:cubicBezTo>
                  <a:pt x="328" y="0"/>
                  <a:pt x="504" y="40"/>
                  <a:pt x="528" y="104"/>
                </a:cubicBezTo>
                <a:cubicBezTo>
                  <a:pt x="552" y="168"/>
                  <a:pt x="468" y="280"/>
                  <a:pt x="384" y="3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06920" y="342900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38640" y="38466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x:=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64160" y="3505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95120" y="53481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x &lt; 1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4800600"/>
            <a:ext cx="380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Works on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Extension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+ y ([Bérard,Dufourd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– y, Silence action ([Bérard,Diekert,Gastin,Petit 1998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New operations on clocks ([Bouyer,Dufourd,Fleury,Petit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Implementa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Forward/backward reachability analys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[Alur &amp; Co 1992], [Daws,Yovine 1996], [Larsen,Pettersson,Yi 1997], [Daws,Tripakis 1998], [Tripakis,Yovine 2001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940040"/>
            <a:ext cx="8763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CD+92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Courcoubetis, Dill, Halbwachs,Wong-Toi. Minimization of Timed Transition  Systems. CONCUR'92 (LNCS 630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D94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Dill. A Theory of Timed Automata. TCS 126(2), 1994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00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ufourd. Timed Automata and Additive Clock Constraints. IPL 75(1.2), 2000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a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Are Timed Automata Updatable? CAV'00 (LNCS 1855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b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Expressiveness of Updatable Timed Automata. MFCS'00 (LNCS 1893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GP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iekert, Gastin, Petit. Characterization of the Expressive Power of Silent Transitions in Timed Automata. Fundamenta Informaticae 36(2.3), 1998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ouyer03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. Untameable Timed Automata! To appear in STACS'03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T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Tripakis. Model-Checking of Real-Time Reachability Properties using Abstractions. TACAS'98 (LNCS 1384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Y96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Yovine. Reducing the Number of Clock Variables of Timed Automata. RTSS'96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LPY97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Larsen, Pettersson, Yi. UPPAAL in a Nutshell. Software Tools for Technology Transfer 1(1.2), 1997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819520"/>
            <a:ext cx="396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Thank you!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And Questions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emantic Model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scret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integer (RT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ns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positive real (Timed Automat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nse tim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atural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r physical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of a specific time unit or time granularit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finite state spac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But there exist methods reduce the infinite concrete state space to finite abstract state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A timed automa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ur, Dill. A Theory of Timed Automata. TCS 126(2), 199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Is a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non-deterministic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finite-stat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automata extended with a finite number of real-valued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clocks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ternates between two modes of execution, letting time pass continuously, then taking a step changing its discrete st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5146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514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,  x ≤ 5,  x := 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ttle more about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4267080"/>
            <a:ext cx="766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A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Arial"/>
              </a:rPr>
              <a:t>clock constraint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X ≤ c | c ≤ X | ¬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 |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1 </a:t>
            </a:r>
            <a:r>
              <a:rPr b="0" i="1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&amp;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666880"/>
            <a:ext cx="129528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2666880"/>
            <a:ext cx="129564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3" idx="6"/>
            <a:endCxn id="114" idx="2"/>
          </p:cNvCxnSpPr>
          <p:nvPr/>
        </p:nvCxnSpPr>
        <p:spPr>
          <a:xfrm>
            <a:off x="2971440" y="2971440"/>
            <a:ext cx="243900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815480" y="18288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put symbo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4160" y="1828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constrai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2360" y="3465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rese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209680"/>
            <a:ext cx="533160" cy="30492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85840" y="2133720"/>
            <a:ext cx="228600" cy="3808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800240" y="2895480"/>
            <a:ext cx="152280" cy="6098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a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system can be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a collection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automa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onents procee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parall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ime and messages are assumed to pass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ynchronously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ll compon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e informal specification of system can be stated as follow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trai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nds a signal to the controll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t least 2 minutes befor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it enters the crossing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s the crossing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5 minute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sending the approaching signal and sends another signal to the controller upon existing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controlle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commands the gate t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w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actly 1 minute after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receiving the approaching signal from the train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ise aga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1 minut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receiving the existing signa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ga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ake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ess than 1 minu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down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etween 1 and 2 minut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up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772760" y="40989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937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4987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4894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4987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5800" y="20415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4080" y="29559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1080" y="21178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160" y="21178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955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4760" y="2575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6880" y="4098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32608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65104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90560" y="287964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447920" y="287928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404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5960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960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404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49080" y="2041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66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800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48720" y="32608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8000" y="24224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46800" y="29559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0920" y="30481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3120" y="27432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48000" y="36417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92840" y="2498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2880" y="2727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892480" y="3641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659560" y="27270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04156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000" y="4876920"/>
            <a:ext cx="79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8160" y="5470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1800" y="425124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91240" y="51814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562284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56228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5561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45561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480" y="4876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0400" y="46324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0400" y="58514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708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493704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038120" y="5851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809880" y="4936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251240"/>
            <a:ext cx="3657600" cy="198144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04156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10040" y="3794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920" y="198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91880" y="36576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772760" y="3500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387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00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89080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000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4080" y="23572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1080" y="1519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2160" y="15192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10040" y="3211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2357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4760" y="1976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6880" y="3500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26622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05272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590560" y="2281320"/>
            <a:ext cx="68580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447920" y="2281320"/>
            <a:ext cx="76176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404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5960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5960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404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9080" y="1442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2084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4320" y="2008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48720" y="26622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48000" y="18241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3120" y="2281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48000" y="3043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92840" y="1900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92880" y="2128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92480" y="3043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659560" y="21283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4428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80920" y="4294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8160" y="4871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1800" y="36529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502452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452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39574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9574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75480" y="42940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0400" y="40338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0400" y="525312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4110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3387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038120" y="5253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809880" y="4338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365292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4428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033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19764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18241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5800" y="1442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1747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5226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5416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58320" y="25257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46800" y="2313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3600" y="1382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15560" y="3059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480" y="46134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ng Chen</cp:lastModifiedBy>
  <dcterms:modified xsi:type="dcterms:W3CDTF">2006-07-31T18:44:2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